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C7FC-FA95-4D45-A8BA-E2707A878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2BB8-B264-42AB-A9A2-409032FA1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790A-5F30-4673-A15F-9C8B1D91A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CE7F-1DBA-446D-B4EF-59F2D1764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8EC2-6434-4545-AB75-72F938024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E7D9-E8D6-4EFB-809B-18DF26A5B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904D-F85E-4ED3-AC73-8AFE0058A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9228-4354-49DB-9DF6-01B61237C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B710-09C0-4F56-B8EE-14993C829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7F24-CC04-40F4-9BDB-8B01E119F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4EAD-BDB7-43BB-823B-63BB4B43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F91F-3D0C-442D-A12C-D38DE27E4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7F101-F33E-4EF0-A453-D4EF6CB484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NA and Protein 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cription &amp; Trans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latio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=    TAC  GGT  TAG  CGC  GCA  A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MRNA = AUG  CCA  AUC  GCG  CGU U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Am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Acids =    Met     Pro     Iso      Ala  Arg  S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Arial"/>
              </a:rPr>
              <a:t>Anti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Arial"/>
              </a:rPr>
              <a:t>Codon:    UAC</a:t>
            </a:r>
            <a:r>
              <a:rPr b="0" lang="en-US" sz="32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0099"/>
                </a:solidFill>
                <a:latin typeface="Arial"/>
              </a:rPr>
              <a:t> GGU  UAG  CGC GCA AU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s and Prot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ins are microscopic tools, each specifically designed to build or operate a component of a living c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A gene that codes for an enzyme that produce pigment can control the flower color of the pl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 of R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gar- rib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 hel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s the base uracil instead of thymine, therefore A binds with 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38098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R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enger RNA (mRNA) carries the message of DNA to the ribs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bosomal RNA (rRNA) Used in the assembly of amino ac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er RNA (tRNA) brings amino acids to the ribosomes for assembly of prote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2095560" cy="2514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57200" y="3886200"/>
            <a:ext cx="2344680" cy="2362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743200" y="2057400"/>
            <a:ext cx="1657440" cy="15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cri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cess of building a mRNA copy of DNA molec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NA polymerase binds to DNA and separates the DNA strands, then uses one strand of DNA to make a RNA template (mR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NA polymerase binds to promotors on the DNA str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48320" y="1828800"/>
            <a:ext cx="38574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NA Proc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NA consists of noncoding region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coding regi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ex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trons are cut out and a 5’ cap and poly A tail are place on the mRNA str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952880" y="1600200"/>
            <a:ext cx="403884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cess of converting the mRNA sequence into a sequence of amino aci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3 bases in a strand of mRNA represent a codon that codes for a specific amino ac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1295280"/>
            <a:ext cx="44956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ticodon (tRNA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complementary to the mRNA codon, therefore bringing the correct amino ac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724280" y="1600200"/>
            <a:ext cx="4114800" cy="45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609560" y="900000"/>
            <a:ext cx="5924880" cy="50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590920" y="231840"/>
            <a:ext cx="6553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7670880" cy="53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5T01:57:35Z</dcterms:created>
  <dc:creator>Lynette Baker</dc:creator>
  <dc:description/>
  <dc:language>en-US</dc:language>
  <cp:lastModifiedBy>Perquimans County Schools</cp:lastModifiedBy>
  <dcterms:modified xsi:type="dcterms:W3CDTF">2007-11-19T15:34:03Z</dcterms:modified>
  <cp:revision>5</cp:revision>
  <dc:subject/>
  <dc:title>RNA and Protein Synthesis</dc:title>
</cp:coreProperties>
</file>